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4C6-6B32-4C8E-B7C4-B60A12C9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AAE-CF9F-439E-B553-38D9B4CC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D99-C42B-4CC6-B8BC-9786B758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116-31E2-4A1F-ACDB-83009FF5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D61-8A0A-4C1E-B628-C27531C1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D97-6D48-4E63-B079-B92A4AB0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8D2-8B04-4B9D-A022-ECE53E7B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889-0E6E-4E34-BDDC-7793AC28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E05-E411-4CC1-B6E1-1AC220A6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9ED-071E-4783-B4E2-BA5CD85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C52-4D8C-404C-8CB0-5FA5D715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CBF-3014-4190-B73E-1063F0C5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5460-DD26-4740-A876-E675C1B82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das.org.rs/tue/zahtev-za-misljenje-o-leku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das.org.rs/tue/tue-obrazac/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24000" y="2924280"/>
            <a:ext cx="828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трина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РАПИЈСКИ ИЗУЗЕЦИ У СПОРТУ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екови који служе за лечење болести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 које се одобрав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ви лекови који служе за лечење болести за које се одобрава TUE могу код здравог спортисте да служе као допинг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Глукокортикостероид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е налазе у терапији више болести с ове листе, али највећи проблем је њихова честа несистемска употреба без оправданих медицинских индикација, која може довести до штетног еф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естостеро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је лек који је, осим за лечење хипогонадизма, нашао примену и злоупотребу код младих људи жељних мишићавог изгл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иуретиц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у супстанце које се најчешће користе у спортовима с тежинском категоријом, где је циљ скидање вишка килограма за што краћи временски пери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екови који служе за лечење болести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 које се одобрав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844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албутамо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о бета-2 агонист ефикасан је у лечењу астме, али га због бронходилататорног ефекта често злоупотребљавају спринте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Еритропоети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ужи за поправљање анемије и повећање броја еритроцита, а самим тим побољшава кисеонички капацитет, па га бициклисти често употребљавају као доп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сихостимуланс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одафинил, којим се лечи нарколепсија, и метилфенидат или амфетаним, којима се лечи хиперактивност – користе се као допинг јер спортисти дају снагу, оштрину и побољшавају резулт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мон рас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пуларно назван извор младости или убица масти, често у спортским круговима служи за добијање мишићне масе заједно с тестостеро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Хијерархија одобравања TUE између антидопинг орган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844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тањ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 је увек актуелно, посебно због односа између интернационалних федерација (IF) и националних антидопинг организација (NAD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ланом 4.4.3.1 новог Светског антидопинг кодекса (2015) дефинише се признавањ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ада спортиста већ има TUE који је одобрила његова NADO и ако TUE испуњава критеријуме Интернационалних стандард за TUE, онда IF мора да га приз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еђутим, уколико IF сматра да TUE не испуњава критеријуме и одбије да га призна, мора о томе да обавести спортисту и његов NADO, с одговарајућим образложе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ирамида одобравања TUE између антидопинг организ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4738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прија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година је увелико варирао и највећи број је забележен 2010. и 2011. године, када је локална примена глукокортикостерида и бета-2 агониста захтевала пријаву декларације о употреби (више није у употреби, а обухватала је скраћен процес добијањ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 одређене леков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6023160" cy="3272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14520" y="6237360"/>
            <a:ext cx="365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 пријав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годи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844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 2007. године, однос мушкараца и жена који су пријављивал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носи 66% наспрам 3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ечна старост спортиста у тренутку пријав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 била је 25 ± 7, а опсег година се кретао од 14 до 6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619280" y="3645000"/>
            <a:ext cx="6102360" cy="2120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2854440" y="60930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јав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ма п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т спортова (од укупно 26) који су имали највећи број пријава TUE од 2007. године јесу: кошарка, фудбал, веслање, рвање и ватерпо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ог за овакву расподелу налазимо превасходно у масовности тих спортова у Србији, али и у нивоу такмичења на које ови спортисти одла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5999" t="0" r="0" b="0"/>
          <a:stretch/>
        </p:blipFill>
        <p:spPr>
          <a:xfrm>
            <a:off x="1325520" y="3213000"/>
            <a:ext cx="6415200" cy="364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869640" y="306864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ј пријављених TUE по спорт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90792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јзаступљеније дијагнозе због којих су спортисти морали да пријаве TUE биле су из групе инфламаторних стања локомоторног апарата, од тога 17% ентезитиси, тендинитиси и фасцити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стма и лумбални синдром се налазе на другом и трећем месту по броју пријава TUE с учесталошћу од 14% и 1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328760" y="2565360"/>
            <a:ext cx="6195960" cy="4178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732720" y="4869000"/>
            <a:ext cx="22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ицинска стања која су захтевала пријаву 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рбиј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АДА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90792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таметазон, дексаметазон и метилпреднизолон су три најчешће забрањене супстанце које лекари преписују као део терапије у лечењу спортиста и налазе се у преко 50% сви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 приј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6951600" cy="3409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721960" y="242100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брањене супстанце у пријавама 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вету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ац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ADA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76500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2013. години глукокортикоиди такође представљају најзаступљеније забрањене супстанце за које су спортисти тражили одобрењ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лику разлику у односу на Србију чини много већи број стимуланса за које је пријављен TUE - највише због дијагнозе поремећаја пажње, која код нас није забележена код спорти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384960" y="278136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нализа пријава T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 свету у 2013. го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050920" y="1924200"/>
            <a:ext cx="53913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и појмов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а Светском антидопинг кодексу, спортисти су одговорни за присуство било ког забрањеног средства или његових метаболита и маркера у њиховом телесном узор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жност сваког спортисте је да се побрине за то да ниједна забрањена супстанца не уђе у његово т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и, као и сви други људи, имају право да се разболе или повреде и да се у току болести леч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, оно што их разликује од осталих је немогућност примене лекова или терапијских процедура без консултације са стручним медицинским особљ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и подлежу редовним допинг контролама и морају водити рачуна о томе да ли се средства која узимају налазе на Листи забрањених допинг супстанци или мет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ос пријављени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д нас 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в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Aнтидопинг агенција Немачкe годишње обради и д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5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TUE, а Антидопинг агенција Републике Србије ок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тањ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 ли су наши спортисти толико здравији од осталих у св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мају навику и културу пријављивања употребе забрањених супстанци у терапијске сврх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сада је било случајева да су спортисти проглашени допинг позитивним и кажњени јер је код њих откривено присуство забрањених супстанци које су користили као лекове, али нису то пријави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нос пријављени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д нас 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в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55736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нашој земљи едукација спортиста и осталих спортских радника још увек на недовољно развијеном ниво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аље је веома важна улога тимских лекара и медицинског стручног тима како би се број пријава TUE повећао у складу с реалним бројем индикација који постоји међу нашим спортис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 неке светске антидопинг организације број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оти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TUE 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дишњ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ивоу, у нашој земљи је анализиран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ијава токо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а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је јасан показатељ да је едукација о значају пријаве TUE и даље један од приоритета АД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деја је да спортисти заједно са својим стручним тимом поднесу захтев за TUE пре узимања лека, а лек почну да пију тек када за то добију одобрење од надлежне институ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потреба лекова са аспек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T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55736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 пријаве TUE је пре свега постављен да би заштитио спортисте од нежељених ефеката забрањених супстанци које се налазе у лековима, али такође да би онемогућио да спортисти злоупотребе лекове у циљу побољшања спортских способ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ђутим, спортисти треба да знају да је највећи број лекова које користе у свакодневном животу дозвољен и да у себи нема забрањених супстан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ртисти такође морају бити опрезни при куповини препарата и лекова у иностранству, јер се састав истог препарата може разликовати у различитим земљ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АС је спортистима омогућила да брзо и сигурно сазнају да ли се у неком леку налазе забрањене супстанце, тако што ће попунити Мишљење о леку на сајту агенције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das.org.rs/tue/zahtev-za-misljenje-o-leku/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име је уједно направљена база питања и одговора о лековима за које се највише тражило мишљење о присуству забрањене супстанц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најчешћих лекова са аспект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268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кови за прехла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го треба водити рачуна о препаратима за прехладу који у себи имај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сеудоефедри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јер он спаде у групу стимуланс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такмиче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и од тих лекова су дефринол, аспирин комплекс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Caffetin Cold, ринасе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глукокортикои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2016. години је приме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локал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лукокортикоида била дозвољ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брањени су глукокортикоиди ако се примењују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рални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равенским, интрамускуларним или ректални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најчешћих лекова са аспект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а лека у виду спреја, гелова и кр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пичка примена (апликација лека у виду спреја, крема, гелова и масти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јесте дозвољен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 захтева пријаву Изузетка за терапеутску употреб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јчешће је реч о лековима који у себи имају глукокортикоиде и њихова локална примена није забрањ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, топичка и локална примена лекова који у себи имају супстанце са забрањене листе може довести до допинг позитивног резултата и захтева висок степен опр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најчешћих лекова са аспект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на лека у виду спреја, гелова и кр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мер из пракс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лучај допинг позитивног спортисте код нас који је користио лек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инофлуимуци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цетилцистеин и туаминохептан) у виду назалног спреја навео је лекаре и фармацеуте да обавесте све спортисте о могућим последицама коришћења лека без лекарског надзора и консултовања АД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кутији овог лека, као и у његовом упутству, јасно је назначено да садржи допинг супстанц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уаминохепта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ја прем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брањеној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листи спада у групу стиму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ако је спортиста користио овај лек у виду назалног спреја, ресорпција лека је била значајна, и довела је до системског деловања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пинг позитивног случ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најчешћих лекова са аспект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268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  Примена бета-2 агониста у терапији астм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брањени су сви бета-2 агонисти, укључујући оба оптичка изомера (нпр. d- и l-), оси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албутамо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нетог инхалаторним путем (максимално 1600 микрограма током 24 h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отеро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нетог инхалаторним путем (максимално 54 микрограма током 24 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алметеро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нетог путем инхалације, у складу с препорученим терапијским протоколом произвођ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о значи да терапијска примена салбутамола (Вентолин), формотерола и салметерола није забрањена, али је потребна пријав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TUE за фенотерол (Беродуа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исуство салбутамола у урину у концентрацији већој од 1000 ng/ml или формотерола у концентрацији већој од 40 ng/ml сматраће се неповољним аналитичким налазом, а не последицом терапијске приме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3760" indent="-3837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имери осталих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16000" y="1268280"/>
          <a:ext cx="6840720" cy="5191200"/>
        </p:xfrm>
        <a:graphic>
          <a:graphicData uri="http://schemas.openxmlformats.org/drawingml/2006/table">
            <a:tbl>
              <a:tblPr/>
              <a:tblGrid>
                <a:gridCol w="4121280"/>
                <a:gridCol w="2719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вотрил (лек за епилепсију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лофт (антидепресив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нтолин-инхалаторно, терапиј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родуал (фонотерол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рање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отребан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ffetin 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псеудоефедрин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биотиц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хистаминици (пресинг, аериус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агра, Циали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ацептивне пилу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sonex, Olyn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дозвољ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рино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рањ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pirin Comple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рањ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as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брањ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су ДОЗВОЉЕНИ за употребу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268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реналин – адреналин је дозвољен с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амо онда када се комбинује с локалним анестетицима или кад је локално примењен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зално и у офтамологиј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лергије и алергијски ринитис – акривастин, цетиризин, хлорфенамин, деслоратадин, фексофенадин, левоцетиризин, лоратадин, мизоластин, оксиметазолин, прометазин, натријум хромогликат, ксилометазол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тикостероиди – (на пример, беклометазон, будесонид, дексаметазон, флутиказон и мометазон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 у форми капи за очи или за нос и у облику назалних спреје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биотици – сви антибиотски лекови су дозвољ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стма – ипратропијум, монтелукаст, натријум кромогликат, теофил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лбутамол, формотерол и салметеро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 искључиво у препорученим терапијским доз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  Констипација (затвор) – бизакодил, течни парафин, метилцелулоза, сена, натријум пикосулф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   Кашаљ, прехлада – кофеин, кодеин, оксиметазолин, парацетамол, фенилефрин, фенилпропраноламин, фолкодин, инхалације паром и раствором ментола, ксилометазол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су ДОЗВОЉЕНИ за употребу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пресија – амитриптилин, доксепин, есциталопрам, флуоксетин, флупентиксол, имипрамин, лофепрамин, нортриптилин, пероксетин, сертралин, венлафакс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јареја, пролив – атропин, дифеноксилат, лоперамид, пробиоти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кови у лечењу инфекција уха – хлорамфеникол, клиокуинол, клотримазол, гентамицин, неомицин, натријум докусат;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ртикостероиди су дозвољени у облику капи за уш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љивичне инфекције – амфотерицин, клотримазол, еконазол, флуконазол, итраконазол, кетоконазол, моконазол, нистатин, тербинафин, толнафт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и с хемороидима – безокаин, бизмут субгалат, цинхокаин и лидокаин; Топични препарати у виду крема и масти, који садрже кортикостероиде, као што су беклометазон, бетаметазон, клобетазол и хидрокортизон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и с варењем – атропин, калцијум карбонат, медицински угаљ, циметидин, фамотидин, ланзопразол, мебеверин, месалазин, омепразол, парацетамол, ранитидин, сулфасалаз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кални анестетици – сви локални анестетиц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 (осим кокаин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хтев за изузеће за терапеутску употребу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UE, енг. Therapeutical Use Exemp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хтев з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зузеће за терапеутску употреб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а подноси у случају када постоји индикација за коришћење супстанци и метода с Листе забрањених средстава 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бог болести или повред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U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лужи да спортисту ослободи опасности проглашења допинг позитивним, у току или ван такмич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и спортисти имају право 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UE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ли постоје јасне индикације за његово одобра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су ДОЗВОЉЕНИ за употребу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700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грена – хлороквин, доксицилин, мефлоквин, прогвани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кови који се користе назално – акривастин, левокабастин, оксиметазолин, фенилефрин, натријум хромогликат, ксилометазолин; Кортикостероиди у виду капи за нос и спреја (беклометазон, флутиказон)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 за употреб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ални контрацептиви – десогестрел, дроспиренон, етинилестрадиол, етинодиол, гестоден, левоноргестрел, местранол, норетистерон, норгестим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алгетици и антиинфламаторни лекови – нестероидни антиинфламаторни лекови </a:t>
            </a:r>
            <a:r>
              <a:rPr b="0" lang="sr-RS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: аспирин, целецоксиб, кодеин, диклофенак, дихидрокодеин, еторикоксиб, ибупрофен, кетопрофен, напроксен, парацетамол, пироксикам, трамадол, валдекокси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кови који су ДОЗВОЉЕНИ за употребу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77336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парати за кожу – топичне креме и намази, који садрже у себи кортикостероид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 дозвољ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есаница – апразолам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јазепам, дифенхидрамин, нитразепам, мелатонин (само уз рецепт), темазепам, зопикл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ала грла – септолете и раствори за локално испирање гр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кцинација – све вакцине су дозвоље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русне инфекције – ацикловир, фамцикловир, идоксуридин, пенциклови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чнина и повраћање – цинаризин, циклизин, домперидон, хиосцин, меклозин, метоклопрамид, прохлорперазин, прометаз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UE образа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1452600" y="3357720"/>
            <a:ext cx="61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das.org.rs/tue/tue-obrazac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ритеријумима под којима се одобрав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ицинско стање спортисте је дијагностиковано у складу с постојећим међународним стандардима и верификовано одговарајућом медицинском документациј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стоји адекватна терапијска алтернатива забрањеној допинг супстанци и/или методу за лечење медицинског стања спортис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узимање забрањених допинг супстанци или непримењивање метода током третирања неког акутног или хроничног медицинског стања значајно би погоршало здравље спортис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апијско коришћење забрањених допинг супстанци и/или метода неће изазвати никакво додатно побољшање способности спортисте осим оног које би се могло очекивати услед враћања у нормално здравствено стање након третирања легитимног медицинског стања. Коришћење забрањених супстанци и/или метода у циљу повећања нивоа ниских/нормалних вредности ендогених хормона неће се сматрати оправдани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пходност коришћења забрањених допинг супстанци и/или метода није, у потпуности нити делимично, последица њиховог претходног нетерапеутског коришће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16322" t="22269" r="29724" b="10797"/>
          <a:stretch/>
        </p:blipFill>
        <p:spPr>
          <a:xfrm>
            <a:off x="826920" y="981000"/>
            <a:ext cx="7669440" cy="5348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222000" y="4046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 одобравања T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 одобравања T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90792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неће бити одобрен уколико тражена примена забрањеног допинг средства или методе служи прикривању дејства претходне повреде антидопинг правила, посебно употребе забрањене допинг 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потврђује Одбор за одобравање изузетака за терапеутску употребу антидопинг агенције, на одређени временски пери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а је дужан да Одбору за TUE достави захтев за одобравање TUE најкасније 30 дана пре следећег спортског такмичења на којем жели учествовати, односно у фази тренинга, пре давања забрањеног допинг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хтев за одобрење TUE (где су сви подаци строго поверљиви) мора бити поднет у оригиналу, јасно и читко попуњен, уз сву потребну медицинску документацију (стручно мишљење лекара, историја болести, резултати лабораторијских испитивања и дијагностичких процедура, актуелна медикација и образложење зашто дозвољене супстанце нису адекватна зам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цес одобравања T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4920" y="1557360"/>
            <a:ext cx="83026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бор за TUE се у задатом року изјашњ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о одобри изузеће за терапеутску употребу, национална антидопинг агенција обавештава о томе Светску антидопинг агенцију, надлежну међународну и националну спортску асоциј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обрење за TUE се може издати и ретроактивно, само у изузетним ситуацијама када постоји потреба за ургентном применом забрањених супстанци и метода (на пример, трансфузија код искрварењ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је јасно одређене болести које се третирају медикаментима и терапијским процедурама које се налазе на Листи забрањених допинг супстанци, и њихова примена спортисту обавезује да затражи одобрење за T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дбор за T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1557360"/>
            <a:ext cx="83026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обрава Одбор за одобравање изузетака за терапеутску употребу Антидопинг 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бор има девет чланова који се именују на период од две 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дседника и члано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бора именује и разрешава Управни одбор Антидопинг агенције на предлог директора Антидопинг 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 члан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бора може бити именован само лекар специјалиста, са искуством у раду са спортистима и знањем у области клиничке, спортске медицине и физиологије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ећина члано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дбора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одбора не смеју имати било какву званичну функцију или бити запослени у Антидопинг аген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E Одбор усваја закључке и доноси пословник о свом раду већином гласова од укупног броја чла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УЕ Одбор поднoси гoдишњи извештај o свoм раду Управнoм oдбoру Антидoпинг 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олести за које спортиста мора да тражи одобрење TUE због коришћења забрањене супстанце као л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22962" t="17347" r="37743" b="9813"/>
          <a:stretch/>
        </p:blipFill>
        <p:spPr>
          <a:xfrm>
            <a:off x="1908000" y="896760"/>
            <a:ext cx="56167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47:50Z</dcterms:modified>
  <cp:revision>192</cp:revision>
  <dc:subject/>
  <dc:title>ФИЗИОЛОГИЈА КРВИ</dc:title>
</cp:coreProperties>
</file>