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08E-2B71-4A5D-91D3-DE466965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C31-4364-483A-8E25-54B30EAA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5B4-EC75-4B1A-A294-C1E638C8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576-B143-4A1D-9569-60F47545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903-EDA9-47BF-BAFD-9BAA9618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33E-A8F4-4C5B-9946-0429B376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950-C96F-4395-A44E-F89E9703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F18-55E7-4885-93CD-0938B23B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E83-7010-4D25-9864-2EBBCFCD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9EC-3708-4F40-A311-2B7535E1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785-7D9A-4A99-BCBB-90603744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299-125C-420C-824C-771675F6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82DE-CBA8-4A7A-9077-EDF65CC42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240948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 Србиј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6951600" cy="3409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2008440" y="206064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брањене супстанце у пријавама T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06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о, с друге стране, погледамо доступну статистку коју вод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DA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ријавам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ветском нивоу у 2013. години, видећемо да глукокортикоиди такође представљају најзаступљеније забрањене супстанце за које су спортисти тражили одобре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ку разлику у односу на Србију чини много већи број стимуланса за које је пријављен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 највише због дијагнозе поремећаја пажње, која код нас није забележена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с пријављени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д нас и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св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170028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Aнтидопинг агенција Немачкe годишње обради и до 4500 TUE, а Антидопинг агенција Републике Србије око 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итањ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су наши спортисти толико здравији од осталих у све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једноставно немају навику и културу пријављивања употребе забрањених супстанци у терапијске сврх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 сада је било случајева да су спортисти проглашени допинг позитивним и кажњени јер је код њих откривено присуство забрањених супстанци које су користили као лекове, али нису то пријави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с пријављени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д нас и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св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Анализа TUE у Срб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9280" y="1413000"/>
            <a:ext cx="4105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ализа 200 TUE пријава у Србији у претходних осам година показал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је да је едукација спортиста и осталих спортских радника још увек на недовољно развијеном нивоу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даље је веома важна улога тимских лекара и медицинског стручног тима како би се број пријава TUE повећао у складу с реалним бројем индикација који постоји међу нашим спортист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Ð ÐµÐ·ÑÐ»ÑÐ°Ñ ÑÐ»Ð¸ÐºÐ° Ð·Ð° Therapeutic Use Exemptions (TUEs)"/>
          <p:cNvPicPr/>
          <p:nvPr/>
        </p:nvPicPr>
        <p:blipFill>
          <a:blip r:embed="rId1"/>
          <a:stretch/>
        </p:blipFill>
        <p:spPr>
          <a:xfrm>
            <a:off x="4932360" y="1341360"/>
            <a:ext cx="38098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15640" y="1699920"/>
            <a:ext cx="471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к неке светске антидопинг организације броје стотине TUE на годишњем нивоу, у Србији се анализира 200 пријава током 8 годин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о је јасан показатељ да је едукација о значају пријаве TUE и даље један од приоритета АДАС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деја је да спортисти заједно са својим стручним тимом поднесу захтев за TUE пре узимања лека, а лек почну да пију тек када за то добију одобрење од надлежне институц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068920" y="476280"/>
            <a:ext cx="46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Анализ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UE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у Срб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Ð ÐµÐ·ÑÐ»ÑÐ°Ñ ÑÐ»Ð¸ÐºÐ° Ð·Ð° Therapeutic Use Exemptions (TUEs)"/>
          <p:cNvPicPr/>
          <p:nvPr/>
        </p:nvPicPr>
        <p:blipFill>
          <a:blip r:embed="rId1"/>
          <a:stretch/>
        </p:blipFill>
        <p:spPr>
          <a:xfrm>
            <a:off x="5076720" y="1557360"/>
            <a:ext cx="38102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Србиј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19700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идопинг агенција Републике Србије је крајем 2015. године у својој евиденцији обележила пријаву двес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200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TUE, то јест изузетака за терапеутску употре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Ð ÐµÐ·ÑÐ»ÑÐ°Ñ ÑÐ»Ð¸ÐºÐ° Ð·Ð° Therapeutic Use Exemptions (TUEs)"/>
          <p:cNvPicPr/>
          <p:nvPr/>
        </p:nvPicPr>
        <p:blipFill>
          <a:blip r:embed="rId1"/>
          <a:stretch/>
        </p:blipFill>
        <p:spPr>
          <a:xfrm>
            <a:off x="1547640" y="2349360"/>
            <a:ext cx="614700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прија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година је увелико варирао и највећи број је забележен 2010. и 2011. године, када је локална примена глукокортикостерида и бета-2 агониста захтевала пријаву декларације о употреби (више није у употреби, а обухватала је скраћен процес добијањ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 одређене леков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6023160" cy="3272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614520" y="6237360"/>
            <a:ext cx="365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прија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годи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1844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 2007. године, однос мушкараца и жена који су пријављивал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носи 66% наспрам 3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ечна старост спортиста у тренутку пријав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 била је 25 ± 7, а опсег година се кретао од 14 до 6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6102360" cy="2120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2854440" y="609300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јав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ма п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0600" y="1412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ет спортова (од укупно 26) који су имали највећи број пријава TUE од 2007. године јесу: кошарка, фудбал, веслање, рвање и ватерпо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азлог за овакву расподелу налазимо превасходно у масовности тих спортова у Србији, али и у нивоу такмичења на које ови спортисти одл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ествовање на светским и међународним такмичењима подразумева и строго поштовање правила која се тичу пријаве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5999" t="0" r="0" b="0"/>
          <a:stretch/>
        </p:blipFill>
        <p:spPr>
          <a:xfrm>
            <a:off x="826920" y="2276640"/>
            <a:ext cx="7302600" cy="4149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2218680" y="170028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ј пријављених TUE у Србији по спорт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6000" y="2060640"/>
            <a:ext cx="871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јзаступљеније дијагнозе због којих су спортисти морали да пријаве TUE биле су из групе инфламаторних стања локомоторног апарата, од тога 17% ентезитиси, тендинитиси и фасцити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стма и лумбални синдром се налазе на другом и трећем месту по броју пријава TUE с учесталошћу од 14% и 1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156440" cy="4825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468360" y="1413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ицинска стања која су захтевала пријаву 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6000" y="184464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а 200 TUE показала је статистику о којој представници АДАС говоре годинама уназ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Зло)употреба системских гликокортикоида је разлог због којег су спортисти најчешће морали да пријаве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Бетаметазон, дексаметазон и метилпреднизолон су три најчешће забрањене супстанце које лекари преписују као део терапије у лечењу спортиста и налазе се у преко 50% свих TUE приј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Vladimir Jakovljevic</cp:lastModifiedBy>
  <dcterms:modified xsi:type="dcterms:W3CDTF">2018-12-04T07:15:19Z</dcterms:modified>
  <cp:revision>73</cp:revision>
  <dc:subject/>
  <dc:title>Демијелинизационе болести Мијастенија гравис</dc:title>
</cp:coreProperties>
</file>